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ECC2-50AD-4E8A-8C82-C10BBF15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0FED-52A2-48D7-9889-D565750ED3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CB5-9F6F-4E20-A66E-75C627CDDE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61F8-6EA1-47E1-AE70-765B17FA14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3B40-549C-4A7C-AD4E-4C9A66C7E1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583-9473-4269-9C59-26BE0C11E5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35BF-056C-4ECF-A939-51430E3670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8873-3075-4676-BCFE-6F422C2C13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37B1-8789-4CAF-9EF9-C72CB5501F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1447-876D-4250-84F9-260850DB6B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A7AC-238C-4043-86AE-96FC586165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BD2-8A65-41A4-86F4-5D2B7E45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7A3-6047-4484-B974-C7D22A4E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CCA-BA72-4589-B2B8-E6E4DE1E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57D-9BCF-4CC9-9FC7-0B8759C1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8FB6-3773-49F3-9834-ACAFAE60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A99-5F83-4694-BD60-291BA6FF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C767-F20E-46EC-AEBC-68FD5F67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9B2B-2549-48DB-9BC5-579A7018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3F9-B9E3-4F80-B4DE-F7F2841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5E98-B028-4635-9AD7-355444E0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F1BB-B817-42DE-962C-0455A7B1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D7F-B065-4C2F-AF12-3C70714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5450-FF7A-4BC6-9433-04F113A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888B-82C6-449C-A408-784F0D8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FE9-F104-4F5F-B165-79B993CB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0A14-9B1E-4F14-BC5C-4CD9FB6E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F5E-1987-4727-ACD9-0650DDDA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43C-2047-4AE5-9159-A30444D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675-5170-428B-B2CE-3DFC3794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45B-90AA-4DD9-A347-E9052A30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1F3-EBB3-406D-881D-58D4B931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153-BDEA-484D-B209-7F4AD76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6B9-449A-4401-A16D-0268FBE5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1A8-C649-497C-9435-FCDDA54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26A1-C393-44FD-A2A5-A835DD1BA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9889-1A65-4C00-99EB-BF4561E9C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d3bdbd"/>
                </a:solidFill>
                <a:latin typeface="Arial"/>
              </a:rPr>
              <a:t>The Progressive Era</a:t>
            </a:r>
            <a:br>
              <a:rPr sz="4800"/>
            </a:br>
            <a:endParaRPr b="0" lang="en-US" sz="48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890- 19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Economic Reform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- belief that workers deserve a share of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e corrupt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krackers- investigative jour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olitical Reform- desire for gov</a:t>
            </a:r>
            <a:r>
              <a:rPr b="0" lang="ja-JP" sz="4200" spc="-1" strike="noStrike">
                <a:solidFill>
                  <a:srgbClr val="d3bdbd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t to be more efficient and responsiv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election of US Senators- 1913- 17th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involvement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ve- a bill introduced by th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- voters can remove an official before the end of thei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dum-a direct popular vote on an issue of public policy, such as a proposed amendment to a state constitution or a proposed la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at the national level, but are common at the state and lo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often used to gauge popular approval or rejection of laws recently passed or under consideration by a state legisl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	</a:t>
            </a: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at problems existed in America at the turn of the Century?</a:t>
            </a:r>
            <a:br>
              <a:rPr sz="4200"/>
            </a:br>
            <a:br>
              <a:rPr sz="4200"/>
            </a:br>
            <a:r>
              <a:rPr b="0" i="1" lang="en-US" sz="3400" spc="-1" strike="noStrike">
                <a:solidFill>
                  <a:srgbClr val="d3bdbd"/>
                </a:solidFill>
                <a:latin typeface="Arial"/>
              </a:rPr>
              <a:t>Brainstorm a List</a:t>
            </a:r>
            <a:br>
              <a:rPr sz="3400"/>
            </a:br>
            <a:endParaRPr b="0" lang="en-US" sz="34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infl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polies- eliminate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b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roads- gov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land 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igration- (Chinese) Nativ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Corru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ization- poor conditions, 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3 +1893 Economic Rec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support unions- poor work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ible removal of Native Amer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= rts. 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ate was elected by State Legis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at does Progressive Mean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towards a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r development; continuous impr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velopment of a society in a direction considered more beneficial than p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gressive is one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favor of the political philosophy of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914400" y="4267080"/>
            <a:ext cx="73915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Who Were the Progressives?</a:t>
            </a:r>
            <a:br>
              <a:rPr sz="3600"/>
            </a:br>
            <a:r>
              <a:rPr b="0" lang="en-US" sz="3200" spc="-1" strike="noStrike">
                <a:solidFill>
                  <a:srgbClr val="d3bdbd"/>
                </a:solidFill>
                <a:latin typeface="Arial"/>
              </a:rPr>
              <a:t>Not an easy answer…</a:t>
            </a:r>
            <a:endParaRPr b="0" lang="en-US" sz="3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Class- unu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Re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-Class Political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Immigration Assoc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What was the Progressive Agenda?</a:t>
            </a:r>
            <a:endParaRPr b="0" lang="en-US" sz="36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Wel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19320" y="76320"/>
            <a:ext cx="7772400" cy="7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f6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02b00"/>
                </a:solidFill>
                <a:latin typeface="Wrangler"/>
                <a:ea typeface="ＭＳ Ｐゴシック"/>
              </a:rPr>
              <a:t>Progressive Party Platfor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09680" y="936720"/>
            <a:ext cx="5715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Women</a:t>
            </a:r>
            <a:r>
              <a:rPr b="1" lang="ja-JP" sz="2500" spc="-1" strike="noStrike">
                <a:solidFill>
                  <a:srgbClr val="d3bdbd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s suffrag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Graduated income tax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Inheritance tax for the rich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Lower tariff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Limits on campaign spend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Currency reform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Minimum wage law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Social insuran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Abolition of child lab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Workmen</a:t>
            </a:r>
            <a:r>
              <a:rPr b="1" lang="ja-JP" sz="2500" spc="-1" strike="noStrike">
                <a:solidFill>
                  <a:srgbClr val="d3bdbd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s compensa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848720" y="974880"/>
            <a:ext cx="60948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e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t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Social Welfar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M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ment Ho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ization-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and Girls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3000" y="472428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these groups promote social welf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Moral Improvemen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Christia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emperance Mv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57:21Z</dcterms:created>
  <dc:creator>Microsoft Office User</dc:creator>
  <dc:description/>
  <dc:language>en-US</dc:language>
  <cp:lastModifiedBy>Microsoft Office User</cp:lastModifiedBy>
  <dcterms:modified xsi:type="dcterms:W3CDTF">2016-04-26T12:24:31Z</dcterms:modified>
  <cp:revision>1</cp:revision>
  <dc:subject/>
  <dc:title> The Progressive Era </dc:title>
</cp:coreProperties>
</file>